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22E-B488-4F86-A8BE-AFB75EC4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1D2-5F4D-4831-8C70-C5BAD976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90A-CA7E-41EF-B57E-2AE02508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C5F-9928-476B-B6FD-F70E7E54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EAB1-A441-4550-8E6C-BB02313F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9583-160E-4263-AB3A-12AE6CF0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A4F6-1B1C-4BC4-87FC-1B02F6C7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87D2-E973-40A5-B4FD-000DB9A1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C437-08D0-4D81-BD02-82D83B47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8449-3776-41DA-BA5D-6611BED3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0EB-C569-48A0-86F9-0C7984E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F6C-B06C-43EB-9AC4-BF850484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5AF0-C47C-47F6-9FE7-347C59C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39C0-D383-40CF-ACA4-2CEA57A9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EDF0-69BF-4BF0-A581-F0064076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82F5-1FDD-4652-9C3C-94CF67C4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34B3-FAC5-4003-8E0A-C4F75EE9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1A4-E4F2-44BC-890F-2FDF863A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1C3-84DE-4352-ABF0-4A05F94C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3CC-2DB7-4678-B6B2-63A43920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0C5-1AC2-4B67-84A7-ED5AE9E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D23-85E0-4759-9D05-F2DE3E8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683-E760-4B67-9CE4-53BED80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A45-627A-4966-BA1A-487ED3A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2319-8BA4-486D-ABB6-7CAE1D04E1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EDB4-0575-4556-9A87-0E4C9409E1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Работу выполнила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л. руководитель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ОШ № 9</a:t>
            </a:r>
            <a:br>
              <a:rPr sz="5400"/>
            </a:br>
            <a:r>
              <a:rPr b="1" lang="ru-RU" sz="6600" spc="-1" strike="noStrike" u="sng">
                <a:solidFill>
                  <a:srgbClr val="ffffb7"/>
                </a:solidFill>
                <a:uFillTx/>
                <a:latin typeface="Arial Black"/>
              </a:rPr>
              <a:t>Хасаншина Э.Р.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рочь отведать и ключевой водицы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SAM_1945"/>
          <p:cNvPicPr/>
          <p:nvPr/>
        </p:nvPicPr>
        <p:blipFill>
          <a:blip r:embed="rId1"/>
          <a:stretch/>
        </p:blipFill>
        <p:spPr>
          <a:xfrm>
            <a:off x="0" y="907920"/>
            <a:ext cx="3200400" cy="3714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AM_1948"/>
          <p:cNvPicPr/>
          <p:nvPr/>
        </p:nvPicPr>
        <p:blipFill>
          <a:blip r:embed="rId2"/>
          <a:stretch/>
        </p:blipFill>
        <p:spPr>
          <a:xfrm>
            <a:off x="2987640" y="907920"/>
            <a:ext cx="4176720" cy="367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AM_1969"/>
          <p:cNvPicPr/>
          <p:nvPr/>
        </p:nvPicPr>
        <p:blipFill>
          <a:blip r:embed="rId3"/>
          <a:stretch/>
        </p:blipFill>
        <p:spPr>
          <a:xfrm>
            <a:off x="5943600" y="907920"/>
            <a:ext cx="3200400" cy="367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AM_1949"/>
          <p:cNvPicPr/>
          <p:nvPr/>
        </p:nvPicPr>
        <p:blipFill>
          <a:blip r:embed="rId4"/>
          <a:stretch/>
        </p:blipFill>
        <p:spPr>
          <a:xfrm>
            <a:off x="0" y="3657600"/>
            <a:ext cx="361944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SAM_1950"/>
          <p:cNvPicPr/>
          <p:nvPr/>
        </p:nvPicPr>
        <p:blipFill>
          <a:blip r:embed="rId5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SAM_1943"/>
          <p:cNvPicPr/>
          <p:nvPr/>
        </p:nvPicPr>
        <p:blipFill>
          <a:blip r:embed="rId6"/>
          <a:stretch/>
        </p:blipFill>
        <p:spPr>
          <a:xfrm>
            <a:off x="2484360" y="3657600"/>
            <a:ext cx="386712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SAM_1966"/>
          <p:cNvPicPr/>
          <p:nvPr/>
        </p:nvPicPr>
        <p:blipFill>
          <a:blip r:embed="rId7"/>
          <a:stretch/>
        </p:blipFill>
        <p:spPr>
          <a:xfrm>
            <a:off x="1908000" y="1628640"/>
            <a:ext cx="54468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7632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оставляем без внимания духо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SAM_3257"/>
          <p:cNvPicPr/>
          <p:nvPr/>
        </p:nvPicPr>
        <p:blipFill>
          <a:blip r:embed="rId1"/>
          <a:stretch/>
        </p:blipFill>
        <p:spPr>
          <a:xfrm>
            <a:off x="0" y="1052640"/>
            <a:ext cx="4788000" cy="359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AM_2715"/>
          <p:cNvPicPr/>
          <p:nvPr/>
        </p:nvPicPr>
        <p:blipFill>
          <a:blip r:embed="rId2"/>
          <a:stretch/>
        </p:blipFill>
        <p:spPr>
          <a:xfrm>
            <a:off x="2411280" y="1881360"/>
            <a:ext cx="4699080" cy="352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AM_1420"/>
          <p:cNvPicPr/>
          <p:nvPr/>
        </p:nvPicPr>
        <p:blipFill>
          <a:blip r:embed="rId3"/>
          <a:stretch/>
        </p:blipFill>
        <p:spPr>
          <a:xfrm>
            <a:off x="4516560" y="3387600"/>
            <a:ext cx="4627440" cy="3470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5867280" y="1125360"/>
            <a:ext cx="302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50920" y="5734080"/>
            <a:ext cx="39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етические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796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 пункт –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700360" y="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социальное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SAM_3491"/>
          <p:cNvPicPr/>
          <p:nvPr/>
        </p:nvPicPr>
        <p:blipFill>
          <a:blip r:embed="rId1"/>
          <a:stretch/>
        </p:blipFill>
        <p:spPr>
          <a:xfrm>
            <a:off x="324000" y="765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SAM_3492"/>
          <p:cNvPicPr/>
          <p:nvPr/>
        </p:nvPicPr>
        <p:blipFill>
          <a:blip r:embed="rId2"/>
          <a:stretch/>
        </p:blipFill>
        <p:spPr>
          <a:xfrm>
            <a:off x="4572000" y="765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AM_3501"/>
          <p:cNvPicPr/>
          <p:nvPr/>
        </p:nvPicPr>
        <p:blipFill>
          <a:blip r:embed="rId3"/>
          <a:stretch/>
        </p:blipFill>
        <p:spPr>
          <a:xfrm>
            <a:off x="324000" y="30686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SAM_3500"/>
          <p:cNvPicPr/>
          <p:nvPr/>
        </p:nvPicPr>
        <p:blipFill>
          <a:blip r:embed="rId4"/>
          <a:stretch/>
        </p:blipFill>
        <p:spPr>
          <a:xfrm>
            <a:off x="4572000" y="306864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2"/>
          <p:cNvSpPr/>
          <p:nvPr/>
        </p:nvSpPr>
        <p:spPr>
          <a:xfrm>
            <a:off x="324000" y="621036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занимаемся общественно полезным труд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851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 просто любим хорошо отдохнуть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4" descr="SAM_3405"/>
          <p:cNvPicPr/>
          <p:nvPr/>
        </p:nvPicPr>
        <p:blipFill>
          <a:blip r:embed="rId1"/>
          <a:stretch/>
        </p:blipFill>
        <p:spPr>
          <a:xfrm>
            <a:off x="324000" y="10526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SAM_3456"/>
          <p:cNvPicPr/>
          <p:nvPr/>
        </p:nvPicPr>
        <p:blipFill>
          <a:blip r:embed="rId2"/>
          <a:stretch/>
        </p:blipFill>
        <p:spPr>
          <a:xfrm>
            <a:off x="4572000" y="3500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SAM_3428"/>
          <p:cNvPicPr/>
          <p:nvPr/>
        </p:nvPicPr>
        <p:blipFill>
          <a:blip r:embed="rId3"/>
          <a:stretch/>
        </p:blipFill>
        <p:spPr>
          <a:xfrm>
            <a:off x="111600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91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ы близки к нашей цел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5229360"/>
            <a:ext cx="80071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Е НАМЕРЕНЫ ОСТАНАВЛИ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484360" y="6021360"/>
            <a:ext cx="431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 ДОСТИГНУТОМ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SAM_3244"/>
          <p:cNvPicPr/>
          <p:nvPr/>
        </p:nvPicPr>
        <p:blipFill>
          <a:blip r:embed="rId1"/>
          <a:stretch/>
        </p:blipFill>
        <p:spPr>
          <a:xfrm>
            <a:off x="1835280" y="1268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ыбор ЗОЖ –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ыбор счастливой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жизн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5" descr="SAM_3509"/>
          <p:cNvPicPr/>
          <p:nvPr/>
        </p:nvPicPr>
        <p:blipFill>
          <a:blip r:embed="rId1"/>
          <a:stretch/>
        </p:blipFill>
        <p:spPr>
          <a:xfrm>
            <a:off x="2195640" y="306864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92360" y="47628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хотим бы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ДОРОВЫ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56000" y="4941720"/>
            <a:ext cx="4321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ы прямо идё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намеченной цел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SAM_2625"/>
          <p:cNvPicPr/>
          <p:nvPr/>
        </p:nvPicPr>
        <p:blipFill>
          <a:blip r:embed="rId1"/>
          <a:stretch/>
        </p:blipFill>
        <p:spPr>
          <a:xfrm>
            <a:off x="2627280" y="1413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259920"/>
            <a:ext cx="741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ДОСТИЖЕНИЯ ЕЁ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484360" y="2565360"/>
            <a:ext cx="432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ЧТ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08000" y="5445000"/>
            <a:ext cx="525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ЗДОРОВЬ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411280" y="4005360"/>
            <a:ext cx="4321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ТАК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39640" y="112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БХОДИМО ОТВЕТИТЬ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124000" y="333000"/>
            <a:ext cx="51847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Gill Sans Ultra Bold"/>
              </a:rPr>
              <a:t>Здоровье –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635280" y="1413000"/>
            <a:ext cx="187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Gill Sans Ultra Bold"/>
              </a:rPr>
              <a:t>это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11280" y="2637000"/>
            <a:ext cx="8137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«состояние полного физического, душевного (психического) и социального благополучия, а не только отсутствие болезней и физических дефектов»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йдемся по всем пунктам опреде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3716280"/>
            <a:ext cx="619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намного ближе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79280" y="2349360"/>
            <a:ext cx="73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Может, наша це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195640" y="5157720"/>
            <a:ext cx="6767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чем нам кажется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2665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1 пункт –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700360" y="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физическое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SAM_1708"/>
          <p:cNvPicPr/>
          <p:nvPr/>
        </p:nvPicPr>
        <p:blipFill>
          <a:blip r:embed="rId1"/>
          <a:stretch/>
        </p:blipFill>
        <p:spPr>
          <a:xfrm>
            <a:off x="324000" y="76500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SAM_1715"/>
          <p:cNvPicPr/>
          <p:nvPr/>
        </p:nvPicPr>
        <p:blipFill>
          <a:blip r:embed="rId2"/>
          <a:stretch/>
        </p:blipFill>
        <p:spPr>
          <a:xfrm>
            <a:off x="4572000" y="765000"/>
            <a:ext cx="426708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AM_2684"/>
          <p:cNvPicPr/>
          <p:nvPr/>
        </p:nvPicPr>
        <p:blipFill>
          <a:blip r:embed="rId3"/>
          <a:stretch/>
        </p:blipFill>
        <p:spPr>
          <a:xfrm>
            <a:off x="0" y="3141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AM_2826"/>
          <p:cNvPicPr/>
          <p:nvPr/>
        </p:nvPicPr>
        <p:blipFill>
          <a:blip r:embed="rId4"/>
          <a:stretch/>
        </p:blipFill>
        <p:spPr>
          <a:xfrm>
            <a:off x="2556000" y="3141720"/>
            <a:ext cx="35049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SAM_2808"/>
          <p:cNvPicPr/>
          <p:nvPr/>
        </p:nvPicPr>
        <p:blipFill>
          <a:blip r:embed="rId5"/>
          <a:stretch/>
        </p:blipFill>
        <p:spPr>
          <a:xfrm>
            <a:off x="4572000" y="3141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1763640" y="621036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как трудимся, так и отдых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щаем каток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SAM_3089"/>
          <p:cNvPicPr/>
          <p:nvPr/>
        </p:nvPicPr>
        <p:blipFill>
          <a:blip r:embed="rId1"/>
          <a:stretch/>
        </p:blipFill>
        <p:spPr>
          <a:xfrm>
            <a:off x="539640" y="981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SAM_3090"/>
          <p:cNvPicPr/>
          <p:nvPr/>
        </p:nvPicPr>
        <p:blipFill>
          <a:blip r:embed="rId2"/>
          <a:stretch/>
        </p:blipFill>
        <p:spPr>
          <a:xfrm>
            <a:off x="4788000" y="2060640"/>
            <a:ext cx="3790800" cy="4392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012000" y="907920"/>
            <a:ext cx="180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ид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280" y="4941720"/>
            <a:ext cx="4608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 иногда и стои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а коньках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287964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2 пункт –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771640" y="26028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душевное (психическое)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SAM_2611"/>
          <p:cNvPicPr/>
          <p:nvPr/>
        </p:nvPicPr>
        <p:blipFill>
          <a:blip r:embed="rId1"/>
          <a:stretch/>
        </p:blipFill>
        <p:spPr>
          <a:xfrm>
            <a:off x="324000" y="1341360"/>
            <a:ext cx="423864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SAM_2613"/>
          <p:cNvPicPr/>
          <p:nvPr/>
        </p:nvPicPr>
        <p:blipFill>
          <a:blip r:embed="rId2"/>
          <a:stretch/>
        </p:blipFill>
        <p:spPr>
          <a:xfrm>
            <a:off x="4572000" y="3357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716360" y="1773360"/>
            <a:ext cx="396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Любим гулять по лесу,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дышать свежим возду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755640" y="4869000"/>
            <a:ext cx="345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Кататься на санках…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и просто валяться на мягко-мягком снег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7:21:27Z</dcterms:created>
  <dc:creator>Sam</dc:creator>
  <dc:description/>
  <dc:language>en-US</dc:language>
  <cp:lastModifiedBy>school</cp:lastModifiedBy>
  <dcterms:modified xsi:type="dcterms:W3CDTF">2011-05-31T12:54:58Z</dcterms:modified>
  <cp:revision>6</cp:revision>
  <dc:subject/>
  <dc:title>Выбор ЗОЖ –  выбор счастливой  жизни</dc:title>
</cp:coreProperties>
</file>